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7C80-DEC1-4666-A5C0-4615EE8E6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407A-F2AF-4924-8732-0CE9A698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6D24-095D-4735-BAF0-209BDD096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0CB1-E8A7-4EFD-B5DB-0AEE91A03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71EE6-BC37-483B-B5AD-A1DCB3949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D075-7E8F-412E-84AD-1A0124D4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F69A-4AF5-495A-8D88-5225580B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F272-97D5-4AC1-BBC7-A0D18657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8A5E5-7F5D-49BB-909F-13D91E19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F456-EF91-4F7D-8857-19871459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7A187-5388-49B5-92DD-2A8E6485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789E-3567-4029-B953-2509245B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E8BA-E588-41AF-A895-57F74B63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EF0C-4E36-4E7C-BF2B-7CF21F25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83353-0F0D-4A3A-B72B-78208A3F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59872-2679-4BF4-8F3F-CF80C77A8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22E2-F244-4068-ABEF-4E8063053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0D42-7479-4ACF-B9CD-7F236C2C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1297-9C3B-4CF5-819B-4F8A435F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F1F6-CC24-4772-B11B-213F03E5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437C-1F0A-4626-85D8-40670060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7893-C28C-42B0-803E-6288CFC6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9243-B360-4036-A060-16346312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9DB4-C924-4797-9FB1-529FC236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F11A-9966-442F-9AFC-142066FABF4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148F-72EF-499B-A05D-3EF4A3AA78F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MATTER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0" name="Content Placeholder 11" descr="chem.jpg"/>
          <p:cNvPicPr/>
          <p:nvPr/>
        </p:nvPicPr>
        <p:blipFill>
          <a:blip r:embed="rId1"/>
          <a:stretch/>
        </p:blipFill>
        <p:spPr>
          <a:xfrm>
            <a:off x="2590920" y="2514600"/>
            <a:ext cx="5029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Homogeneous can be…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Mixtur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lt 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monade mix (uniform in composition at the macro leve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 a substan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l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g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Substances can be 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Tahoma"/>
              </a:rPr>
              <a:t>Compou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Cl (sodium chlorid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glucos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OH (sodium hydroxid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Tahoma"/>
              </a:rPr>
              <a:t>El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pper (Cu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balt (C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ranium (U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lium (H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Heterogeneous matter is always a mixtur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xtures are combinations of substances and/or elements that can be separated by physical means- the identities of the components won’t chan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terogeneous mixtures are (to the naked eye for our purposes) uneven (layers or visible parts) in compos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Time to Play Element, Compound or Mixtur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lt 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monia g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monia dissolved in water (household ammoni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tassi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tassium chlori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iz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4 karat go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umin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da (with ice and bubbles visibl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The Answ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ahoma"/>
              </a:rPr>
              <a:t>Salt w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Ammonia g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ahoma"/>
              </a:rPr>
              <a:t>Ammonia dissolved in water (household ammoni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Potassi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ahoma"/>
              </a:rPr>
              <a:t>Potassium chlori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Pizz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ahoma"/>
              </a:rPr>
              <a:t>14 karat gol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Alumin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ahoma"/>
              </a:rPr>
              <a:t>Soda (with ice and bubbles visibl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24280" y="1371600"/>
            <a:ext cx="4191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ahoma"/>
              </a:rPr>
              <a:t>Mixture (homogeneou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ompou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ahoma"/>
              </a:rPr>
              <a:t>Mixture (homogeneou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El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ahoma"/>
              </a:rPr>
              <a:t>Compou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Mixture (heterogeneou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ahoma"/>
              </a:rPr>
              <a:t>Mixture (homogeneou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El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ahoma"/>
              </a:rPr>
              <a:t>Mixture (heterogeneou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Conservation Laws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( Law Of Conservation of Mass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Tahoma"/>
              </a:rPr>
              <a:t>Matter (Mas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tter is  not created or destroyed in ordinary chemical or physical proces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a reaction the total amount of starting material will equal the amount of materials produc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Tahoma"/>
              </a:rPr>
              <a:t>Ener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ergy is not created or destroy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e form of energy can be converted to anoth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: electrical energy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light or hea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s- lots but whatever is conserved is not created or destroy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Properti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ysical- properties (or characteristics) of a substance that can be observed or measured without changing the substance: (mass, density, color, melting poin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emical- describes the substance’s ability to react with other substances; can be determined only by a reaction which changes the substance; (flammability, corrosion resistance, explosivenes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Chang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ysical- do not alter the identity of the substance (same stuff but a different for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mical – chemical reactions which involve the formation of new substances from oth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Give-away wor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ahoma"/>
              </a:rPr>
              <a:t>Physical Chang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l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eez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vapo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i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lim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ar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ush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ind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ahoma"/>
              </a:rPr>
              <a:t>Chemical Chang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us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c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rro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rmen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t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compos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nthesiz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The States of Matter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167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l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qu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s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5" descr="sold,liquid,gas micro and macro"/>
          <p:cNvPicPr/>
          <p:nvPr/>
        </p:nvPicPr>
        <p:blipFill>
          <a:blip r:embed="rId1"/>
          <a:stretch/>
        </p:blipFill>
        <p:spPr>
          <a:xfrm>
            <a:off x="3124080" y="1447920"/>
            <a:ext cx="6019920" cy="37335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3276720" y="5562720"/>
            <a:ext cx="54864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State of matter that is so hot that all atoms have broken into charged particles (we’ll run into this in our nuclear chapter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What is Matter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s mas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kes up sp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we might ordinarily think of as “stuff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its not matter then it is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Properties of solids, liquids and gas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04920" y="1981080"/>
          <a:ext cx="8762760" cy="4953240"/>
        </p:xfrm>
        <a:graphic>
          <a:graphicData uri="http://schemas.openxmlformats.org/drawingml/2006/table">
            <a:tbl>
              <a:tblPr/>
              <a:tblGrid>
                <a:gridCol w="1143000"/>
                <a:gridCol w="1752480"/>
                <a:gridCol w="1752480"/>
                <a:gridCol w="2210040"/>
                <a:gridCol w="190476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66"/>
                          </a:solidFill>
                          <a:uFillTx/>
                          <a:latin typeface="Tahoma"/>
                        </a:rPr>
                        <a:t>St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66"/>
                          </a:solidFill>
                          <a:uFillTx/>
                          <a:latin typeface="Tahoma"/>
                        </a:rPr>
                        <a:t>Sha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66"/>
                          </a:solidFill>
                          <a:uFillTx/>
                          <a:latin typeface="Tahoma"/>
                        </a:rPr>
                        <a:t>Volu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66"/>
                          </a:solidFill>
                          <a:uFillTx/>
                          <a:latin typeface="Tahoma"/>
                        </a:rPr>
                        <a:t>Compressibili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66"/>
                          </a:solidFill>
                          <a:uFillTx/>
                          <a:latin typeface="Tahoma"/>
                        </a:rPr>
                        <a:t>Organiz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cc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Soli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Incompressi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Highl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Organiz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Liqui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In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Incompressi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Less organiz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G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In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In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Compressi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Disorganiz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Phase Chang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ed as a change from one state of matter (solid, liquid, gas) to ano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has a name that you should kn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Phase Chang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8" name="Picture 4" descr="phase changes triangle"/>
          <p:cNvPicPr/>
          <p:nvPr/>
        </p:nvPicPr>
        <p:blipFill>
          <a:blip r:embed="rId1"/>
          <a:stretch/>
        </p:blipFill>
        <p:spPr>
          <a:xfrm>
            <a:off x="685800" y="1390680"/>
            <a:ext cx="7848720" cy="54673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6"/>
          <p:cNvSpPr/>
          <p:nvPr/>
        </p:nvSpPr>
        <p:spPr>
          <a:xfrm>
            <a:off x="4038480" y="1219320"/>
            <a:ext cx="40309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Blue arrows- energy has to go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into the substance (endothermic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Red arrows- energy is releas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from the substance (exothermic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How can we organize information about matter?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4" name="Picture 4" descr="matter flowchart1"/>
          <p:cNvPicPr/>
          <p:nvPr/>
        </p:nvPicPr>
        <p:blipFill>
          <a:blip r:embed="rId1"/>
          <a:stretch/>
        </p:blipFill>
        <p:spPr>
          <a:xfrm>
            <a:off x="1066680" y="1254240"/>
            <a:ext cx="6782040" cy="56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A different look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6" name="Picture 4" descr="matterflowchart2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Notice that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types of changes can be used to separate th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ysical changes separate mixtures into their components (part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mical changes (reactions) separate compounds into el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Homogeneous or heterogeneou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ogeneous materials have the same composition throughou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ir in the roo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mogenized milk (how do they do that?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xtures can be homogeneous (then they are called solution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stances (elements or compounds) are homogeneous as wel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the top, bottom, middle are the same it is homogeneo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Homogeneous or heterogeneous, cont’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terogeneous mixtures have different composition (make up) at different pa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it is in layers or has definite parts or zones it is heterogeneous (salad, pizza, soil) then it is heterogeneo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Homogeneous or heterogeneous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ddy 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lt water (all dissolve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iece of sil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in of sal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ndful of beach s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33412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terogeneo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mogeneo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mogeneo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mogeneo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terogeneo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terogeneo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last one confusing?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2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What about that last one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4343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the eye it is homogeneo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oom in and you’ll se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d cells, white cells, platele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 it depends (a favorite answer of mine!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ule of thumb- “macro” applies he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- either answer with a logical reason behind 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6" descr="blood cells"/>
          <p:cNvPicPr/>
          <p:nvPr/>
        </p:nvPicPr>
        <p:blipFill>
          <a:blip r:embed="rId1"/>
          <a:stretch/>
        </p:blipFill>
        <p:spPr>
          <a:xfrm>
            <a:off x="990720" y="1905120"/>
            <a:ext cx="3352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3T23:49:18Z</dcterms:created>
  <dc:creator> </dc:creator>
  <dc:description/>
  <dc:language>en-US</dc:language>
  <cp:lastModifiedBy>asalla</cp:lastModifiedBy>
  <dcterms:modified xsi:type="dcterms:W3CDTF">2009-09-14T00:36:00Z</dcterms:modified>
  <cp:revision>20</cp:revision>
  <dc:subject/>
  <dc:title>MATTER</dc:title>
</cp:coreProperties>
</file>